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gif" ContentType="image/gif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20.gif" ContentType="image/gif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2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51D75-56EF-441B-862E-0A8485DCC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7AE5A-42CB-461B-AB30-6D3B8EA7D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4B6EC-2965-49B5-A3C2-182F57B52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EB584-5DE9-4016-B06B-F87524EDC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DD663-47DF-4C39-B357-DCCBEB57CF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46BA8-1D4A-48AD-AE7D-9BB2EAA51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C98-27C2-4AAA-AB7F-C6A113FE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45F-5BAC-4E12-A78A-D995675C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988D-899B-4BF0-A9B6-7FAB0A0D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0D63-B2B2-407A-815C-BF05BBEE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34D9-7AD1-4F91-81DB-0B68712E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DCEE-BADE-4120-A746-EAB52390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C503-3E4E-428A-A98D-6A748813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CB99-4B6C-4A34-A1EC-4BDA8C13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427A-372C-44BC-8166-74D0DDB9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23E9-6BEF-4839-8FA7-B8013C9A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9A22-9189-4755-854F-DD68597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36E-BA8B-4AA4-8E4C-0F2733AD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3A2B-7DA1-492C-9FA3-ACAC1A5C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04EB-BFE0-464B-89E7-8B6B47FB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DA11-60E4-4C67-A61E-39D55760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E189-97C0-4964-B3C2-43303AF8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F6B7-CA43-4C94-ACCB-0C3AEE7A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1E8F-FB4C-4F2B-9ABA-3A63E467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05D5-DC45-485C-9746-F18F43F9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52C3-C2CF-4519-A7C1-B6B4EEC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5CD33-FE74-4EBD-BA0A-A886CCA1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77C29-08C9-4034-A111-0A8DAB87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42B-D24B-4174-B784-410CC581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25E6-9F54-49D1-A56A-F675E61F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EEF3-FFB3-4F70-A3E2-BF3045A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6024-99B0-4963-871D-58EBD81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025A9-22FD-45D2-B57B-CA20CA8E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FDED6-D49C-49C8-92E5-EB9D3DA8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63B4B-09CA-4D27-ABF9-6B7CE35C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D07A-D165-4DB7-A03A-B7D3E46B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207D-0202-44A8-823F-3FDA1A49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97E64-B0C3-44B4-8F8A-583312C5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FDAF1-C2A0-4115-A1B2-01D50664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B68-C15F-4314-AFB0-11C06DC9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54DC5-DA5F-479A-972C-C827763B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671D-F3F6-453D-AA48-9919CDD3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221F6-CC12-431C-A84D-19794651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1544-8F07-4168-96A7-18A78DEC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B881-328F-4EB0-BD19-64A797D8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7988-9240-4DBF-B1AF-15136959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8CFAE-D5EA-4BC8-80C5-BA8AA8F4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C034C-9BF6-4D8C-A664-B859E052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2BCE6-809F-43B3-B2F3-29F09CEA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3B338-640A-473B-8C69-D07074D9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C9C-5654-4B75-B798-6496EF78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047E2-5F56-44B4-9D26-19B2FDCD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105E-EA49-4EE3-A113-1DCFA191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94846-12B9-45CA-BE63-6CEF3E44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820D-77A7-4ADE-B000-A3893A15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21B7F-0D06-4B21-99EA-FFDB5910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9B61-5C7C-446A-807E-0198AB69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31465-26A7-4AD1-BC05-ED63BB2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C15CC-7AE5-4227-9D29-121D252D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5809B-F7F9-47D4-A1E1-6546FD91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643C-D768-474D-8F70-265F85D1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0AB-0FE5-40C3-BA57-8A450AE7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DBF4B-6E3F-4868-A65D-3D889824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6DEF1-B3D8-4E45-A530-FEAF4E6B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FE587-4747-4C4A-90D0-C09BBD8B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AD76A-87D1-4DD3-940B-CD94CC9D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C4B6C-7188-4B18-A94E-B534AF1D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0D4BB-DCE9-4A74-BC6F-2661CEF9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BC5D-B11A-4185-AE7C-E6BEA02A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D5262-4DF3-475F-B35A-9BA9235E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CDC15-F65E-4C3D-B8E4-B859580E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DB7BF-6B4A-4FFB-B497-3BCC43BC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9E4-C272-4949-BD43-34AEBE90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3088-6ECC-485F-AFA2-31017F9B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F941-07E7-43C5-B2B7-794FEE5E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84829-38BB-4FE3-93B6-D0949CA8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54810-3BD9-415B-B0FD-473869594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F2DD2-1180-4548-A495-0BBD87AC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B6B68-E7FD-479A-B835-A7CAA7E9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A56E7E-DA5A-4B1C-B836-2C97129D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7FBB8E-C5D3-46A0-9E9E-DA818964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F139AB-E7AA-4CAA-B0B7-7EE910A0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88D75-5009-44B6-8E2B-09644B0E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A4C-DBEC-4C59-8A1B-B85778D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38AA7E-D4F2-4787-B2F9-5FAEDDC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2FED19-5022-48A8-87AB-B216D9C0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0C46BE-A1D4-46C0-8D50-8BEDD334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2A297D-C70D-416F-991E-201942A5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2A31C-9EA6-41EC-93ED-81EB60A43A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E95-87EB-49BC-8D06-9DE12B29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C330D-ADDB-4118-8B4E-CD081FE882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8CB7A0-072C-4E2E-8BAF-96763034A2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810E7-A2B4-4F54-86CC-E2479CE7D8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54E70-A97F-4CA7-95AB-B876660E8D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C235B8-9CF5-448A-8B23-20D91E9A5D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D3C73-0269-4F64-BC42-9FE7473FD9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F351E-7993-470A-AD60-99CB1FAB8B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1" descr=""/>
          <p:cNvPicPr/>
          <p:nvPr/>
        </p:nvPicPr>
        <p:blipFill>
          <a:blip r:embed="rId1"/>
          <a:stretch/>
        </p:blipFill>
        <p:spPr>
          <a:xfrm>
            <a:off x="689040" y="1249200"/>
            <a:ext cx="7772400" cy="25909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"/>
          <p:cNvSpPr/>
          <p:nvPr/>
        </p:nvSpPr>
        <p:spPr>
          <a:xfrm>
            <a:off x="5735160" y="5889600"/>
            <a:ext cx="3243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 «НОС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особенность такого вида вязания - использование рук в качестве инструмента вязания, вместо привычных спиц. При помощи такой необычной техники можно связать  изделие большого размера из ниток большого диаметра, например, шарф, покрывало или плед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Users\малыш\Елена\вяжем\технолог\работа\m-_B8gSRtkA.jpg"/>
          <p:cNvPicPr/>
          <p:nvPr/>
        </p:nvPicPr>
        <p:blipFill>
          <a:blip r:embed="rId2"/>
          <a:stretch/>
        </p:blipFill>
        <p:spPr>
          <a:xfrm>
            <a:off x="2700360" y="3645000"/>
            <a:ext cx="4319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обучения и воспитания слепых и слабовидящих: Сб. науч. трудов. / Под ред. А.Г. Литвака. — Л., 1981. — 122 с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язания электронный ресур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http://www.myjane.ru/articles/text/?id=257 , - 2017. - 02.02.2017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тов А.М. Восстановление трудоспособности слепых: Учебно-методическое пособие.— М.: Из-во ВОС, 1976.—143 с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агин Ю.А. Восприятие средств наглядности учащимися школы слепых.— М.: Просвещение, 1969.—Гл. IV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вак А.Г. Теоретические вопросы тифлопсихологии: Учеб. Пособие.— Л.: ЛГПИ им. А.И. Герцена, 1973.—155 с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ва Л.И. Модели интегрированного обучения детей с нарушениями зрения //Дефектология. - 1997.- № 2.- С. 8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моленко А.В. Осязание в процессе познания и труда.— М.: Из-во АПН РСФСР, 1959.—Гл. 1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https://st.stranamam.ru/data/cache/2017nov/01/09/23266824_88570.jpg"/>
          <p:cNvPicPr/>
          <p:nvPr/>
        </p:nvPicPr>
        <p:blipFill>
          <a:blip r:embed="rId1"/>
          <a:stretch/>
        </p:blipFill>
        <p:spPr>
          <a:xfrm>
            <a:off x="539640" y="38768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ttps://st.stranamam.ru/data/cache/2017nov/01/09/23266824_88570.jpg"/>
          <p:cNvPicPr/>
          <p:nvPr/>
        </p:nvPicPr>
        <p:blipFill>
          <a:blip r:embed="rId2"/>
          <a:stretch/>
        </p:blipFill>
        <p:spPr>
          <a:xfrm>
            <a:off x="6804000" y="4005360"/>
            <a:ext cx="2063880" cy="2063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https://www.chitalnya.ru/upload2/365/58c09ef93bbd623991f906f72d3b7ade.jpg"/>
          <p:cNvPicPr/>
          <p:nvPr/>
        </p:nvPicPr>
        <p:blipFill>
          <a:blip r:embed="rId3"/>
          <a:stretch/>
        </p:blipFill>
        <p:spPr>
          <a:xfrm>
            <a:off x="1258920" y="2133720"/>
            <a:ext cx="73645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611280" y="620640"/>
            <a:ext cx="806436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стоки и дарования детей на кончиках пальцев. От пальцев, образно говоря, идут тончайшие нити-ручейки, которые питают источник творческой мысли». Другими словами, чем больше мастерства в детской руке, тем умнее ребёнок.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.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онечно, в процессе освоения творческой деятельности любые дети сталкиваются со сложностями, а мы в свою очередь их поправляем и помогаем. Но есть категория слепых и слабовидящих детей, которым особенно нужна не толь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аша  физическая помощь, но и моральная поддержка, вера в их 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еобходимо только помочь таким детям поверить в свои силы, раскрыть их возможности, дать нужные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39280" y="836280"/>
            <a:ext cx="8147160" cy="5040360"/>
          </a:xfrm>
          <a:prstGeom prst="rect">
            <a:avLst/>
          </a:prstGeom>
          <a:noFill/>
          <a:ln w="9360">
            <a:solidFill>
              <a:srgbClr val="d488c5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дети с нарушениями зрения нуждаются в развитии мелкой моторики, т. к. хорошо развитые движения и тактильная чувствительность пальцев в значительной степени компенсирует недостаточность зр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занятий по развитию мелкой моторики является формирование у детей с нарушением зрения умений и навыков осязательного восприятия предметов и явлений окружающего мир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Центром всей учебно-воспитательной работы является трудовое воспитание учащихся. Дети занимаются самыми разнообразными видами практической деятельности, имеющими общественно-полезно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2133360"/>
            <a:ext cx="7858080" cy="1803240"/>
          </a:xfrm>
          <a:prstGeom prst="rect">
            <a:avLst/>
          </a:prstGeom>
          <a:noFill/>
          <a:ln w="9360">
            <a:solidFill>
              <a:srgbClr val="d488c5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2754"/>
                </a:solidFill>
                <a:latin typeface="Arial"/>
                <a:ea typeface="Arial"/>
              </a:rPr>
              <a:t>ВАШЕМУ ВНИМАНИЮ ПРЕДЛАГА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2754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772754"/>
                </a:solidFill>
                <a:latin typeface="Arial"/>
                <a:ea typeface="Arial"/>
              </a:rPr>
              <a:t>СЛЕДУЮЩИЕ ВИДЫ РУЧНОГО ТРУДА С ДЕТЬМ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sp>
        <p:nvSpPr>
          <p:cNvPr id="339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Содержимое 6" descr="Как слепить гусеницу из пластилина поэтапно - шаг 1"/>
          <p:cNvPicPr/>
          <p:nvPr/>
        </p:nvPicPr>
        <p:blipFill>
          <a:blip r:embed="rId2"/>
          <a:srcRect l="0" t="0" r="0" b="11642"/>
          <a:stretch/>
        </p:blipFill>
        <p:spPr>
          <a:xfrm>
            <a:off x="928800" y="1500120"/>
            <a:ext cx="2928960" cy="18050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Как слепить гусеницу из пластилина поэтапно - шаг 2"/>
          <p:cNvPicPr/>
          <p:nvPr/>
        </p:nvPicPr>
        <p:blipFill>
          <a:blip r:embed="rId3"/>
          <a:srcRect l="0" t="0" r="0" b="11584"/>
          <a:stretch/>
        </p:blipFill>
        <p:spPr>
          <a:xfrm>
            <a:off x="5000760" y="1500120"/>
            <a:ext cx="3071520" cy="17859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Гусеница своими руками: как сделать поделку из цветной бумаги, носка,  пластилина | Все о рукоделии"/>
          <p:cNvPicPr/>
          <p:nvPr/>
        </p:nvPicPr>
        <p:blipFill>
          <a:blip r:embed="rId4"/>
          <a:stretch/>
        </p:blipFill>
        <p:spPr>
          <a:xfrm>
            <a:off x="2786040" y="3857760"/>
            <a:ext cx="4071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, которая еще называется рисование нитью. В ее основе лежит последовательное заполнение контуров выбранных изображений при помощи шнурков либо толстых ниток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4" name="Заголовок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45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4" descr="https://www.maam.ru/upload/blogs/detsad-251176-1516444953.jpg"/>
          <p:cNvPicPr/>
          <p:nvPr/>
        </p:nvPicPr>
        <p:blipFill>
          <a:blip r:embed="rId2"/>
          <a:srcRect l="17633" t="36428" r="8455" b="4967"/>
          <a:stretch/>
        </p:blipFill>
        <p:spPr>
          <a:xfrm>
            <a:off x="642960" y="2857680"/>
            <a:ext cx="2914560" cy="18288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C:\Users\User\Pictures\20201015_122204.jpg"/>
          <p:cNvPicPr/>
          <p:nvPr/>
        </p:nvPicPr>
        <p:blipFill>
          <a:blip r:embed="rId3"/>
          <a:srcRect l="22822" t="13887" r="7112" b="20602"/>
          <a:stretch/>
        </p:blipFill>
        <p:spPr>
          <a:xfrm>
            <a:off x="3786120" y="264312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Поделки из ниток. Помпоны, пряжа, изонить, ниткография в старшей группе -  Страница 2. Воспитателям детских садов, школьным учителям и педагогам -  Маам.ру"/>
          <p:cNvPicPr/>
          <p:nvPr/>
        </p:nvPicPr>
        <p:blipFill>
          <a:blip r:embed="rId4"/>
          <a:srcRect l="15813" t="2817" r="34389" b="66969"/>
          <a:stretch/>
        </p:blipFill>
        <p:spPr>
          <a:xfrm>
            <a:off x="6000840" y="2857680"/>
            <a:ext cx="27860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1"/>
          <p:cNvSpPr/>
          <p:nvPr/>
        </p:nvSpPr>
        <p:spPr>
          <a:xfrm>
            <a:off x="468360" y="1341360"/>
            <a:ext cx="7704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им видом работы справляются как слабовидящие дети, так и слепые. Простое перекатывание бусин или бисера на кончиках пальцев дает хороши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3537000" cy="30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24T23:28:26Z</dcterms:created>
  <dc:creator>User</dc:creator>
  <dc:description/>
  <dc:language>en-US</dc:language>
  <cp:lastModifiedBy>малыш</cp:lastModifiedBy>
  <dcterms:modified xsi:type="dcterms:W3CDTF">2021-10-10T11:29:04Z</dcterms:modified>
  <cp:revision>61</cp:revision>
  <dc:subject/>
  <dc:title>«Руки как инструмент познания окружающего мир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